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A7192-BC12-47DD-881F-D0EE1BB52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93FD8-1DE8-4601-9810-9E71C3C04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45AE4-CFED-45AC-A0BC-9F3C6165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9921-5657-46CD-B484-DAB7E9C1C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FF87E-B4DA-468B-9777-1BCD64AB5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F5B92-3C56-4FF4-8A17-DAD4230A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91500-A8F9-44BC-8949-836B4C02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7679-41CA-4316-970C-D41887EA0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45BC-702D-4A1F-92D8-AD81BD009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4BFE-3174-4A35-9911-B306FB84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867D-F938-4D6E-9F6E-A38B50665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6D32-ED3B-451F-85BE-4817ED2E9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40FE-5424-4C51-84C9-CD840E607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27432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Harrison Ford</a:t>
            </a:r>
            <a:endParaRPr b="0" lang="en-US" sz="4400" spc="-1" strike="noStrike">
              <a:solidFill>
                <a:srgbClr val="000000"/>
              </a:solidFill>
              <a:latin typeface="Arial"/>
            </a:endParaRPr>
          </a:p>
        </p:txBody>
      </p:sp>
      <p:sp>
        <p:nvSpPr>
          <p:cNvPr id="70" name="PlaceHolder 2"/>
          <p:cNvSpPr>
            <a:spLocks noGrp="1"/>
          </p:cNvSpPr>
          <p:nvPr>
            <p:ph/>
          </p:nvPr>
        </p:nvSpPr>
        <p:spPr>
          <a:xfrm>
            <a:off x="4952880" y="1600200"/>
            <a:ext cx="3733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arrison ford is an older gentleman much like Oliver Lambert . He is also tuff but caring much Olli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145040" y="0"/>
            <a:ext cx="4998960" cy="6858000"/>
          </a:xfrm>
          <a:prstGeom prst="rect">
            <a:avLst/>
          </a:prstGeom>
          <a:ln w="0">
            <a:noFill/>
          </a:ln>
        </p:spPr>
      </p:pic>
      <p:sp>
        <p:nvSpPr>
          <p:cNvPr id="73" name="PlaceHolder 1"/>
          <p:cNvSpPr>
            <a:spLocks noGrp="1"/>
          </p:cNvSpPr>
          <p:nvPr>
            <p:ph type="title"/>
          </p:nvPr>
        </p:nvSpPr>
        <p:spPr>
          <a:xfrm>
            <a:off x="457200" y="2743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Gerard Butl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8080"/>
                </a:solidFill>
                <a:latin typeface="Arial"/>
              </a:rPr>
              <a:t>He would play Wayne Terrance a younger FBI agent. Gerard has the look of an FBI agent and is rugged and could throw down if he wanted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txBox="1"/>
          <p:nvPr/>
        </p:nvSpPr>
        <p:spPr>
          <a:xfrm>
            <a:off x="228600" y="304920"/>
            <a:ext cx="8915400" cy="5943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writing styl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y charged like a battering ram and sent the Nordic crashing into a railing.(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 landed four bullet like jabs to the eyes and nose, each one drawing blood. (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rdic fell to all fours, and ray snapped his head with 4 powerful kicks, he groaned pitifully and fell, face first (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five A.M. the alarm clock exploded on the new bed table under the new lamp, and was immediately silenced. (7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y arrived in Memphis on a Thursday morning, and, as promised, the black 318i sat under the carport as though it belonged there.(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txBox="1"/>
          <p:nvPr/>
        </p:nvSpPr>
        <p:spPr>
          <a:xfrm>
            <a:off x="1752480" y="990720"/>
            <a:ext cx="7696440" cy="54100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LOT</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FBI told Mitch that the Firm was part of the mafia. If Mitch would have not helped the FBI and stuck with the firm the story would have changed a lot. The story would be a lot less suspenseful because there wouldn’t be all the conspira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txBox="1"/>
          <p:nvPr/>
        </p:nvSpPr>
        <p:spPr>
          <a:xfrm>
            <a:off x="228600" y="228600"/>
            <a:ext cx="8686800" cy="6324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FLIC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y McDeere beat up a Nordic guy who was trying to kill Mitch and Abby. Ray punched the Nordic guy as he was trying to kill Abby and Mitch. He punched him 4 times then kicked him in the head till he quit moving. This situation could not have been handled differently. If Ray had not done this Abby and Mitch would have died. If Abby and Mitch died then ray would end up back in prison. So this was a very important part in the nov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txBox="1"/>
          <p:nvPr/>
        </p:nvSpPr>
        <p:spPr>
          <a:xfrm>
            <a:off x="457200" y="380880"/>
            <a:ext cx="845820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m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 think John Grisham choose the title ‘the firm’ because the book is based on a law firm. I feel it fits good because every thing that happens in the book is based around the law firm Mitch works for. There is no other title that would fit as good as the firm. It is simple yet very effective.</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Mitchell McDeer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Arial"/>
              </a:rPr>
              <a:t> </a:t>
            </a:r>
            <a:r>
              <a:rPr b="0" lang="en" sz="2400" spc="-1" strike="noStrike">
                <a:solidFill>
                  <a:srgbClr val="ffff00"/>
                </a:solidFill>
                <a:latin typeface="Arial"/>
              </a:rPr>
              <a:t>He was a very ambitious law student fresh out of harvard. He was very heavily recuited by law firms but settled with a firm in memphis. The pay was better and he wanted out of the cold weather. He is very intelligent and ambitious. </a:t>
            </a:r>
            <a:endParaRPr b="0" lang="en-US" sz="2400" spc="-1" strike="noStrike">
              <a:solidFill>
                <a:srgbClr val="000000"/>
              </a:solidFill>
              <a:latin typeface="Arial"/>
            </a:endParaRPr>
          </a:p>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Arial"/>
              </a:rPr>
              <a:t>He has an athletic build and works out every day. He was a quarter back when he was in college but due to a knee injury he was forced to quit. </a:t>
            </a:r>
            <a:endParaRPr b="0" lang="en-US" sz="2400" spc="-1" strike="noStrike">
              <a:solidFill>
                <a:srgbClr val="000000"/>
              </a:solidFill>
              <a:latin typeface="Arial"/>
            </a:endParaRPr>
          </a:p>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rPr>
              <a:t>He comes from a broken home. His father died when he was young, his mother married an abusive drunk, his brother Ray is in prison and his other brother died in Vietnam. He married Abby when he graduated from high school. Because of all this his desire to do well is very high. He works hard so that he will that make something of him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Arial"/>
              </a:rPr>
              <a:t>Ray McDeer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0000"/>
                </a:solidFill>
                <a:latin typeface="Arial"/>
              </a:rPr>
              <a:t>He is the brother of Mitch McDeere. He's a convicted felon who was in a bar fight and killed a man. While in prison ray studied languages and became fluent in many. Mitch looks at as the only family he has. He is very intelligen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0000"/>
                </a:solidFill>
                <a:latin typeface="Arial"/>
              </a:rPr>
              <a:t>While in prison ray has become very fit. He has transfromed his body into a weapon and is now very respected by the other inmates because of his fighting skills.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only person who visits ray in prison is Mitch. He has no other relationships with anyone in the 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Abby McDeere</a:t>
            </a:r>
            <a:endParaRPr b="0" lang="en-US" sz="4400" spc="-1" strike="noStrike">
              <a:solidFill>
                <a:srgbClr val="000000"/>
              </a:solidFill>
              <a:latin typeface="Arial"/>
            </a:endParaRPr>
          </a:p>
        </p:txBody>
      </p:sp>
      <p:sp>
        <p:nvSpPr>
          <p:cNvPr id="49" name=""/>
          <p:cNvSpPr/>
          <p:nvPr/>
        </p:nvSpPr>
        <p:spPr>
          <a:xfrm>
            <a:off x="228600" y="1447920"/>
            <a:ext cx="85345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bby is very attractive, she has long tanned legs, long brown hair and a slim physique. She has a very good relationship with Mitch, they rarely fight. She is also very close to her parents and Kay Quinn her best friend. Abby is very sceptical of the firm at first but then settles in. when Mitch starts working 90 hour weeks she starts to get stressed. After she discovers the truth about the firm she loses it. She leaves Mitch and goes and lives with her parents for her safety. She is also very intelligent, she is a elementary teacher. She helps Mitch in the end to screw over the firm and the F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1143000" y="2666880"/>
            <a:ext cx="4114800" cy="1508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itchell McDe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
          <p:cNvSpPr/>
          <p:nvPr/>
        </p:nvSpPr>
        <p:spPr>
          <a:xfrm>
            <a:off x="0" y="0"/>
            <a:ext cx="3200400" cy="1557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tch changed when he got the job with the firm. He now had money and a home.</a:t>
            </a:r>
            <a:endParaRPr b="0" lang="en-US" sz="2400" spc="-1" strike="noStrike">
              <a:solidFill>
                <a:srgbClr val="000000"/>
              </a:solidFill>
              <a:latin typeface="Arial"/>
            </a:endParaRPr>
          </a:p>
        </p:txBody>
      </p:sp>
      <p:sp>
        <p:nvSpPr>
          <p:cNvPr id="52" name=""/>
          <p:cNvSpPr/>
          <p:nvPr/>
        </p:nvSpPr>
        <p:spPr>
          <a:xfrm>
            <a:off x="5562720" y="152280"/>
            <a:ext cx="3581280" cy="22885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 also changed when he discovered that the firm was watching and listening to every move he made. This caused him to be more sketchy. </a:t>
            </a:r>
            <a:endParaRPr b="0" lang="en-US" sz="2400" spc="-1" strike="noStrike">
              <a:solidFill>
                <a:srgbClr val="000000"/>
              </a:solidFill>
              <a:latin typeface="Arial"/>
            </a:endParaRPr>
          </a:p>
        </p:txBody>
      </p:sp>
      <p:sp>
        <p:nvSpPr>
          <p:cNvPr id="53" name=""/>
          <p:cNvSpPr/>
          <p:nvPr/>
        </p:nvSpPr>
        <p:spPr>
          <a:xfrm flipH="1" flipV="1">
            <a:off x="1295280" y="1676160"/>
            <a:ext cx="6098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4114800" y="1523520"/>
            <a:ext cx="10666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715000" y="4575240"/>
            <a:ext cx="3429000" cy="2288520"/>
          </a:xfrm>
          <a:prstGeom prst="rect">
            <a:avLst/>
          </a:prstGeom>
          <a:solidFill>
            <a:srgbClr val="ff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FBI approached Mitch he became more careful because he didn’t want to end up like the kozinksy and Hodges. </a:t>
            </a:r>
            <a:endParaRPr b="0" lang="en-US" sz="2400" spc="-1" strike="noStrike">
              <a:solidFill>
                <a:srgbClr val="000000"/>
              </a:solidFill>
              <a:latin typeface="Arial"/>
            </a:endParaRPr>
          </a:p>
        </p:txBody>
      </p:sp>
      <p:sp>
        <p:nvSpPr>
          <p:cNvPr id="56" name=""/>
          <p:cNvSpPr/>
          <p:nvPr/>
        </p:nvSpPr>
        <p:spPr>
          <a:xfrm>
            <a:off x="4267080" y="3809880"/>
            <a:ext cx="1295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5670720"/>
            <a:ext cx="4724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both the FBI and the firm are hunting for Mitch he becomes very illusive he is never caught.</a:t>
            </a:r>
            <a:endParaRPr b="0" lang="en-US" sz="2400" spc="-1" strike="noStrike">
              <a:solidFill>
                <a:srgbClr val="000000"/>
              </a:solidFill>
              <a:latin typeface="Arial"/>
            </a:endParaRPr>
          </a:p>
        </p:txBody>
      </p:sp>
      <p:sp>
        <p:nvSpPr>
          <p:cNvPr id="58" name=""/>
          <p:cNvSpPr/>
          <p:nvPr/>
        </p:nvSpPr>
        <p:spPr>
          <a:xfrm flipH="1">
            <a:off x="2590920" y="4267080"/>
            <a:ext cx="38088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
          <p:cNvSpPr txBox="1"/>
          <p:nvPr/>
        </p:nvSpPr>
        <p:spPr>
          <a:xfrm>
            <a:off x="0" y="304920"/>
            <a:ext cx="8763120" cy="6248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ast for the movi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135320" y="0"/>
            <a:ext cx="5008680" cy="6858000"/>
          </a:xfrm>
          <a:prstGeom prst="rect">
            <a:avLst/>
          </a:prstGeom>
          <a:ln w="0">
            <a:noFill/>
          </a:ln>
        </p:spPr>
      </p:pic>
      <p:sp>
        <p:nvSpPr>
          <p:cNvPr id="61" name="PlaceHolder 1"/>
          <p:cNvSpPr>
            <a:spLocks noGrp="1"/>
          </p:cNvSpPr>
          <p:nvPr>
            <p:ph type="title"/>
          </p:nvPr>
        </p:nvSpPr>
        <p:spPr>
          <a:xfrm>
            <a:off x="456840" y="2743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hia LeBoeuf </a:t>
            </a:r>
            <a:endParaRPr b="0" lang="en-US" sz="4000" spc="-1" strike="noStrike">
              <a:solidFill>
                <a:srgbClr val="000000"/>
              </a:solidFill>
              <a:latin typeface="Arial"/>
            </a:endParaRPr>
          </a:p>
        </p:txBody>
      </p:sp>
      <p:sp>
        <p:nvSpPr>
          <p:cNvPr id="62"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hia labeouf would fit Mitchell McDeere perfect. He has the same build and hair color. He is young enough to be fresh out of law school. From his other movies he fits the part of the of a person who is very intelligent and good under prea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4476600" cy="6858000"/>
          </a:xfrm>
          <a:prstGeom prst="rect">
            <a:avLst/>
          </a:prstGeom>
          <a:ln w="0">
            <a:noFill/>
          </a:ln>
        </p:spPr>
      </p:pic>
      <p:sp>
        <p:nvSpPr>
          <p:cNvPr id="64" name="PlaceHolder 1"/>
          <p:cNvSpPr>
            <a:spLocks noGrp="1"/>
          </p:cNvSpPr>
          <p:nvPr>
            <p:ph type="title"/>
          </p:nvPr>
        </p:nvSpPr>
        <p:spPr>
          <a:xfrm>
            <a:off x="4648320" y="2743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cc"/>
                </a:solidFill>
                <a:latin typeface="Arial"/>
              </a:rPr>
              <a:t>Megan Fox</a:t>
            </a:r>
            <a:endParaRPr b="0" lang="en-US" sz="4400" spc="-1" strike="noStrike">
              <a:solidFill>
                <a:srgbClr val="000000"/>
              </a:solidFill>
              <a:latin typeface="Arial"/>
            </a:endParaRPr>
          </a:p>
        </p:txBody>
      </p:sp>
      <p:sp>
        <p:nvSpPr>
          <p:cNvPr id="65"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cc"/>
                </a:solidFill>
                <a:latin typeface="Arial"/>
              </a:rPr>
              <a:t>Megan fox fits the physical description of Abby McDeere perfect. She has blond brown hair and is very beautiful. She also works very well with shia lebou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520"/>
            <a:ext cx="419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00"/>
                </a:solidFill>
                <a:latin typeface="Arial"/>
              </a:rPr>
              <a:t>Mark Wahlberg</a:t>
            </a:r>
            <a:endParaRPr b="0" lang="en-US" sz="4400" spc="-1" strike="noStrike">
              <a:solidFill>
                <a:srgbClr val="000000"/>
              </a:solidFill>
              <a:latin typeface="Arial"/>
            </a:endParaRPr>
          </a:p>
        </p:txBody>
      </p:sp>
      <p:sp>
        <p:nvSpPr>
          <p:cNvPr id="67" name="PlaceHolder 2"/>
          <p:cNvSpPr>
            <a:spLocks noGrp="1"/>
          </p:cNvSpPr>
          <p:nvPr>
            <p:ph/>
          </p:nvPr>
        </p:nvSpPr>
        <p:spPr>
          <a:xfrm>
            <a:off x="228600" y="2057400"/>
            <a:ext cx="419112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Mark Wahlberg would fit the part of the hardened brother who was in prison. He has the same build as Ray McDeer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4780080" y="0"/>
            <a:ext cx="43639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5:04:41Z</dcterms:created>
  <dc:creator>School District 14</dc:creator>
  <dc:description/>
  <dc:language>en-US</dc:language>
  <cp:lastModifiedBy>School District 14</cp:lastModifiedBy>
  <dcterms:modified xsi:type="dcterms:W3CDTF">2010-01-19T14:20:39Z</dcterms:modified>
  <cp:revision>8</cp:revision>
  <dc:subject/>
  <dc:title>Cast </dc:title>
</cp:coreProperties>
</file>